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ED7E-D495-4D56-BABB-BB9E793C3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C61B-FBD7-4E11-BA03-1E692FF3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CDD3-65FB-480E-BFC7-D75AA686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8255-53A6-4BA6-9804-7A91CC4C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6AF6-9601-40BA-A917-FE02A124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B92A-B516-4E64-913A-98C9392B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D2C4-F639-4A04-8462-FEAA2901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F6AD-95B6-4D9C-94DD-ECA88489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27C-9244-4575-9BE3-8C7BED04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1BFE-0A0D-4B5C-B7A4-954B1DBF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6D9F-4DA1-498C-B605-95BF3513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7478-DBA2-4A94-8A97-BECE7847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D2A3-2DF3-44F6-9965-70E1499EB2B1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Sphere Of Influen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here of influ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a settlement describes the area that is served by a settlement, for a particular fun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sphere of influence for different functions may cover vastly different are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instance a supermarket may attract people from a 20-mile radius, whilst a leisure activity, such as going to the theatre may attract them from far further aw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Does This Me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larger a settlement is the greater its sphere of influence is likely to be, as it has a wider range of services and functions to attract people to go ther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is shown in the diagram below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small village may only have a village store selling the daily newspaper and food such as bread and milk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ople will only travel the shortest distance they need to buy these product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are described as being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onvenience goods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other words, something that you can buy easily and for the same price all over the pla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mparison Go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r town would have a wider sphere of influence because it would have shops and services that are more specialist, and so people would be willing to travel further to use the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xample might be a furniture sho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ell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parison goods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other words products that you might shop around for before going ahead and buying somet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R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an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a good or service describes the maximum distance that someone would be willing to travel to obtain that good or serv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newspaper shop has a small range because people will not travel far to use the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inema has a much wider range as people are prepared to travel much further to go to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reshold Pop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reshold popul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a good or service is the minimum number of people needed to allow that shop or service to be successfu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re specialist a shop is the larger its threshold population 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newsagent will have a small threshold, where as a supermarket like Tesco's needs a much larger population before it can consider opening a sto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23:49:54Z</dcterms:created>
  <dc:creator>Dell_02</dc:creator>
  <dc:description/>
  <dc:language>en-US</dc:language>
  <cp:lastModifiedBy>Dell_02</cp:lastModifiedBy>
  <dcterms:modified xsi:type="dcterms:W3CDTF">2011-01-26T00:00:08Z</dcterms:modified>
  <cp:revision>2</cp:revision>
  <dc:subject/>
  <dc:title>Sphere Of Influence</dc:title>
</cp:coreProperties>
</file>